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2C2F-DE97-4D4B-B0AF-C96C1F80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F4CD-8C3B-44BA-B9F3-69FDBDB8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566F-1890-400C-BEC8-D090308B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0550-5EC2-4E99-994C-089B5841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5B4E-87D4-4384-AB45-1F692071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CFD8-F032-4358-924F-81609CB5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81E1-9FE3-444B-A431-3E628C00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B521-5999-4C43-8244-EC3D1C1E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54EC-5E48-4F47-A57D-B0BD79E1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4FE9-FB56-40F8-8D11-EB2625DA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9879-D433-4BA7-BF43-7891607E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5450-6BB4-4765-8ED8-9975920B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73CD-BB01-43E3-8490-D9E0B31D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41C9-F506-436A-B64E-AF11DB34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0004-F5BC-4685-A527-F6C2E73B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C6EB-B2F0-4DE0-BAA7-00C5F144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F5C5-09BD-4543-A3FE-EF440C85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03132F-F71A-4F6F-ABE4-A5CE22B0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91BA11-6F26-4BC8-90C8-9C6CD6FC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325FD-1E83-468F-B627-675D6596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07C452-3E8B-4AF4-B198-712EB5C5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73D76-55CA-4450-A43A-B2995E5F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EB2-5F09-4D5D-9DA3-D8384B0E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76F9D-307B-47DD-B1FE-E9AAD7ED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3E3397-ABB1-46FE-B39B-2747AFF7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D8E7F3-4605-49F4-9C50-27B5C8D7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06601-46B1-44D4-99EE-A9F7736C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E4958-7251-44D2-B2FB-9AB94C3E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985710-3800-4480-B293-E93B0B0F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9A6D6F-567D-4892-A59C-44906A8D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E49C1-FD35-4A5F-AA13-6D8CA02B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DC7C2-CC02-458C-B102-A7061BDD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A2F02-261C-46E8-9E66-198C45A1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CFF7-C6EF-43FF-AF2A-9125D63C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A4E45-6278-451D-9887-277BA66F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F6055-C2FA-456F-86D7-DD2B51AB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569ED-4869-4531-BC50-6CA9808C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25072-519B-463F-9949-AA814817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025DA-8B3A-46F2-9501-198FF858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E245A-8905-458E-AEE9-EECD5564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2CB27-B75A-4444-8CED-BE9D1615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17826-222D-44C2-AAFC-7BAA3F2E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0BC6D-2660-411E-8183-423D441A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D3EB-E822-4BD6-B11A-EC1E22D5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15E-0ECF-4A8F-B6C8-74BBFA08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E48D-412E-43CF-8266-C2AB6E50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CAEE-126D-4243-A51D-AF1CF9FA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2858-86A9-4B5A-8138-4CD00AF5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C388-5414-4184-9EE1-9180B630A9EE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DB59-F494-4B07-B306-A36CF7C8541D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430B-2ABB-4D0B-BCFA-D7B1FFFD6926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E987-9805-4D80-A498-52EC2608D0F0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rebuchet MS"/>
              </a:rPr>
              <a:t>Updating FpML’s FX Product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456"/>
                </a:solidFill>
                <a:latin typeface="Georgia"/>
              </a:rPr>
              <a:t>Andrew Jacobs</a:t>
            </a:r>
            <a:br>
              <a:rPr sz="2400"/>
            </a:br>
            <a:r>
              <a:rPr b="0" lang="en-GB" sz="2400" spc="-1" strike="noStrike">
                <a:solidFill>
                  <a:srgbClr val="424456"/>
                </a:solidFill>
                <a:latin typeface="Georgia"/>
              </a:rPr>
              <a:t>HandCoded Consulting Lt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456"/>
                </a:solidFill>
                <a:latin typeface="Georgia"/>
              </a:rPr>
              <a:t>4</a:t>
            </a:r>
            <a:r>
              <a:rPr b="0" lang="en-GB" sz="2400" spc="-1" strike="noStrike" baseline="30000">
                <a:solidFill>
                  <a:srgbClr val="424456"/>
                </a:solidFill>
                <a:latin typeface="Georgia"/>
              </a:rPr>
              <a:t>th</a:t>
            </a:r>
            <a:r>
              <a:rPr b="0" lang="en-GB" sz="2400" spc="-1" strike="noStrike">
                <a:solidFill>
                  <a:srgbClr val="424456"/>
                </a:solidFill>
                <a:latin typeface="Georgia"/>
              </a:rPr>
              <a:t> Mar, 201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Spot &amp; Forward Trad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n 4.x the spot and forward trades are based on the same fxSingleLeg ele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New model renames this to fxSpotOrForwar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SpotOrForwar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Largely the same as 4.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New dealtCurrency element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9" name="Picture 3" descr="xx.png"/>
          <p:cNvPicPr/>
          <p:nvPr/>
        </p:nvPicPr>
        <p:blipFill>
          <a:blip r:embed="rId1"/>
          <a:stretch/>
        </p:blipFill>
        <p:spPr>
          <a:xfrm>
            <a:off x="4687920" y="714240"/>
            <a:ext cx="398304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Exchange Rat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1" name="Content Placeholder 4" descr="xx.png"/>
          <p:cNvPicPr/>
          <p:nvPr/>
        </p:nvPicPr>
        <p:blipFill>
          <a:blip r:embed="rId1"/>
          <a:stretch/>
        </p:blipFill>
        <p:spPr>
          <a:xfrm>
            <a:off x="5286240" y="2071800"/>
            <a:ext cx="2901960" cy="4525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28760" y="2214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Stricter grammar than 4.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Eliminates a few rule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 Swap Trad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n FX Swap is a combination of two trades, either spot/forward or forward/forwar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The old model allowed any number of exchanges but the new restricts it to just two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n the old model FX Swap was a container for other products – like a strategy. In the new model it’s a single produc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Underlying FX trades are named the ‘nearLeg’ and the ‘farLeg’ to indicate the value date orde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Swap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6" name="Content Placeholder 3" descr="xx.png"/>
          <p:cNvPicPr/>
          <p:nvPr/>
        </p:nvPicPr>
        <p:blipFill>
          <a:blip r:embed="rId1"/>
          <a:stretch/>
        </p:blipFill>
        <p:spPr>
          <a:xfrm>
            <a:off x="5000760" y="2143080"/>
            <a:ext cx="3363840" cy="4525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356760" y="22147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Now contains only two underlying leg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4.x. allowed any number – was effectively a strategy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 Swap Leg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Near and far legs based on a new type and not FxSpotOrFowar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Is not derived from Product as in 4.x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50" name="Content Placeholder 4" descr="xx.png"/>
          <p:cNvPicPr/>
          <p:nvPr/>
        </p:nvPicPr>
        <p:blipFill>
          <a:blip r:embed="rId1"/>
          <a:stretch/>
        </p:blipFill>
        <p:spPr>
          <a:xfrm>
            <a:off x="4714920" y="689040"/>
            <a:ext cx="417996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3" descr=""/>
          <p:cNvPicPr/>
          <p:nvPr/>
        </p:nvPicPr>
        <p:blipFill>
          <a:blip r:embed="rId1"/>
          <a:stretch/>
        </p:blipFill>
        <p:spPr>
          <a:xfrm>
            <a:off x="444600" y="1974960"/>
            <a:ext cx="8053200" cy="13906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Op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More consistent with other produc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Separate exercise structures for American and European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Averaging and barriers are represented as ‘features’ not separate product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New ‘soldAs’ reference to allow buyer/seller perspective to be easier to deriv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Did I buy a put or sell a call?  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Reordered to bring related data togeth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5" name="Content Placeholder 6" descr="xx.png"/>
          <p:cNvPicPr/>
          <p:nvPr/>
        </p:nvPicPr>
        <p:blipFill>
          <a:blip r:embed="rId1"/>
          <a:stretch/>
        </p:blipFill>
        <p:spPr>
          <a:xfrm>
            <a:off x="5499000" y="-3786120"/>
            <a:ext cx="3287880" cy="104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AmercanExercis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Adds support for multiple exercis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With optional limits on the notional size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58" name="Content Placeholder 4" descr="xx.png"/>
          <p:cNvPicPr/>
          <p:nvPr/>
        </p:nvPicPr>
        <p:blipFill>
          <a:blip r:embed="rId1"/>
          <a:stretch/>
        </p:blipFill>
        <p:spPr>
          <a:xfrm>
            <a:off x="4648320" y="2779560"/>
            <a:ext cx="4038480" cy="34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EuropeanExercis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Describes the exercise parameters and the associated value da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1" name="Content Placeholder 4" descr="xx.png"/>
          <p:cNvPicPr/>
          <p:nvPr/>
        </p:nvPicPr>
        <p:blipFill>
          <a:blip r:embed="rId1"/>
          <a:stretch/>
        </p:blipFill>
        <p:spPr>
          <a:xfrm>
            <a:off x="4952880" y="3135240"/>
            <a:ext cx="342900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Conten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Background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The ‘Option’ Framework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Validation Issue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Basic FX Produc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Spot &amp; Forward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FX Swap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FX Option Produc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Simple FX option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3548a"/>
                </a:solidFill>
                <a:latin typeface="Georgia"/>
              </a:rPr>
              <a:t>Barriers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3548a"/>
                </a:solidFill>
                <a:latin typeface="Georgia"/>
              </a:rPr>
              <a:t>Averaging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Digital Option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Range Accrual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erm Deposi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Money Market Deposit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Dual Currency Deposit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OptionFeatur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Adds Asian and/or Barrier features to the op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4" name="Content Placeholder 4" descr="xx.png"/>
          <p:cNvPicPr/>
          <p:nvPr/>
        </p:nvPicPr>
        <p:blipFill>
          <a:blip r:embed="rId1"/>
          <a:stretch/>
        </p:blipFill>
        <p:spPr>
          <a:xfrm>
            <a:off x="4948200" y="3836880"/>
            <a:ext cx="34387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AsianFe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Captures the parameters for the average rate calcul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7" name="Content Placeholder 4" descr="xx.png"/>
          <p:cNvPicPr/>
          <p:nvPr/>
        </p:nvPicPr>
        <p:blipFill>
          <a:blip r:embed="rId1"/>
          <a:stretch/>
        </p:blipFill>
        <p:spPr>
          <a:xfrm>
            <a:off x="5611680" y="888840"/>
            <a:ext cx="274644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BarrierFe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Defines a barrier level and then condition for activ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0" name="Content Placeholder 4" descr="xx.png"/>
          <p:cNvPicPr/>
          <p:nvPr/>
        </p:nvPicPr>
        <p:blipFill>
          <a:blip r:embed="rId1"/>
          <a:stretch/>
        </p:blipFill>
        <p:spPr>
          <a:xfrm>
            <a:off x="5329080" y="1143000"/>
            <a:ext cx="33307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DigitalOp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2" name="Content Placeholder 5" descr="xx.png"/>
          <p:cNvPicPr/>
          <p:nvPr/>
        </p:nvPicPr>
        <p:blipFill>
          <a:blip r:embed="rId1"/>
          <a:stretch/>
        </p:blipFill>
        <p:spPr>
          <a:xfrm>
            <a:off x="4500720" y="-5043600"/>
            <a:ext cx="4429080" cy="119016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28760" y="2214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Uses grammar to ensure triggers match the exercise styl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Touch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6" name="Content Placeholder 4" descr="xx.png"/>
          <p:cNvPicPr/>
          <p:nvPr/>
        </p:nvPicPr>
        <p:blipFill>
          <a:blip r:embed="rId1"/>
          <a:stretch/>
        </p:blipFill>
        <p:spPr>
          <a:xfrm>
            <a:off x="5524560" y="880920"/>
            <a:ext cx="2976480" cy="58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Trigge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9" name="Content Placeholder 4" descr="xx.png"/>
          <p:cNvPicPr/>
          <p:nvPr/>
        </p:nvPicPr>
        <p:blipFill>
          <a:blip r:embed="rId1"/>
          <a:stretch/>
        </p:blipFill>
        <p:spPr>
          <a:xfrm>
            <a:off x="5572080" y="1571760"/>
            <a:ext cx="27050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Content Placeholder 4" descr="xx.png"/>
          <p:cNvPicPr/>
          <p:nvPr/>
        </p:nvPicPr>
        <p:blipFill>
          <a:blip r:embed="rId1"/>
          <a:stretch/>
        </p:blipFill>
        <p:spPr>
          <a:xfrm>
            <a:off x="5214960" y="-2558880"/>
            <a:ext cx="3576600" cy="94168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428760" y="2214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Payout is proportional to the number of days that an FX rate remains between bound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notional * accruing days / days  in period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Can have additional barrier featur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e.g. Knock-out barrier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RangeAccrualOp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3" descr=""/>
          <p:cNvPicPr/>
          <p:nvPr/>
        </p:nvPicPr>
        <p:blipFill>
          <a:blip r:embed="rId1"/>
          <a:stretch/>
        </p:blipFill>
        <p:spPr>
          <a:xfrm>
            <a:off x="444600" y="1974960"/>
            <a:ext cx="8053200" cy="13906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Consistency with Interest Rates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t was suggested that the TermDeposit model be made more consistent with Swaps, bu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Confirmations for Term Deposits are much simple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The current model is compares well with example confirmat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changes introduc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Change the terminology used to identify the parties (e.g. the depositor and deposit taker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Re-order some of the elements to group related data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TermDeposi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Some renaming and reordering compared to 4.x mod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9" name="Content Placeholder 5" descr="xx.png"/>
          <p:cNvPicPr/>
          <p:nvPr/>
        </p:nvPicPr>
        <p:blipFill>
          <a:blip r:embed="rId1"/>
          <a:stretch/>
        </p:blipFill>
        <p:spPr>
          <a:xfrm>
            <a:off x="5214960" y="-2357280"/>
            <a:ext cx="3298680" cy="90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Backgroun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This presentation describes a number of change to the FX options to bring them into line with other product area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38086"/>
                </a:solidFill>
                <a:latin typeface="Georgia"/>
              </a:rPr>
              <a:t>Turned out not to be that easy as every product area derives its options inconsistently with the other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38086"/>
                </a:solidFill>
                <a:latin typeface="Georgia"/>
              </a:rPr>
              <a:t>The changes also update the base products to make better use of XML schema and simplify the validation rule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This work has been based on experience of using the FX products at BNP Paribas, JP Morgan and a few other firms, as well as designing the FX validation rule set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Dual Currency Term Deposi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A term deposit with an embedded option that causes the payout to be in a second currency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38086"/>
                </a:solidFill>
                <a:latin typeface="Georgia"/>
              </a:rPr>
              <a:t>The fixed interest rate + the foreign exchange option can provides a higher rate of return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These products are confirmed as a single trade which combines deposit and option data attribut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Has been modelled as a ‘feature’ that can be added to a term deposi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38086"/>
                </a:solidFill>
                <a:latin typeface="Georgia"/>
              </a:rPr>
              <a:t>There are other variants that could be added (e.g. deposit take can decided interest and principal payment currency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DualCurrencyFe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Describes the properties of an option used to deliver the interest and principal in another currenc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4" name="Content Placeholder 5" descr="xx.png"/>
          <p:cNvPicPr/>
          <p:nvPr/>
        </p:nvPicPr>
        <p:blipFill>
          <a:blip r:embed="rId1"/>
          <a:stretch/>
        </p:blipFill>
        <p:spPr>
          <a:xfrm>
            <a:off x="4648320" y="3067200"/>
            <a:ext cx="403848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Compatibility with 4.x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ll 4.x FX products can be transform into the new mod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Some element renaming and re-orderin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Could be achieved with XSL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X Swaps with more than two legs can be modelled as strateg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Currently No Common Option Bas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2" name="Content Placeholder 3" descr=""/>
          <p:cNvPicPr/>
          <p:nvPr/>
        </p:nvPicPr>
        <p:blipFill>
          <a:blip r:embed="rId1"/>
          <a:stretch/>
        </p:blipFill>
        <p:spPr>
          <a:xfrm>
            <a:off x="396720" y="2206800"/>
            <a:ext cx="8345520" cy="43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Option Framework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re is no common ‘Option’ base type in Fp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OptionBase’ comes close but forces the inclusion of a put/call flag which is no good for digital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only thing all option types have in common is that they have is a buyer and seller/write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New Option Base Typ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6" name="Content Placeholder 5" descr="xx.png"/>
          <p:cNvPicPr/>
          <p:nvPr/>
        </p:nvPicPr>
        <p:blipFill>
          <a:blip r:embed="rId1"/>
          <a:stretch/>
        </p:blipFill>
        <p:spPr>
          <a:xfrm>
            <a:off x="4643280" y="2143080"/>
            <a:ext cx="3259440" cy="4525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287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Only enforces a buyer and sell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Could be used to re-factor other option typ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Grammar &amp; Rule Issu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X products where added to FpML 3.0 as a DTD based mod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The grammar is very loose – Too many independent optional elements. It does not enforce relationships between elemen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The basic data types used for values like rates have no constraints (e.g. can be negative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Validation Issu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FX product set current has ~47 rul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A lot of rules for such simple produc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 number of rules can be eliminated by adding constraints to ele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e.g. FX rates must be greater than zero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ome can be eliminated by having more general enumer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e.g. sideRateQuoteBasis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3" descr=""/>
          <p:cNvPicPr/>
          <p:nvPr/>
        </p:nvPicPr>
        <p:blipFill>
          <a:blip r:embed="rId1"/>
          <a:stretch/>
        </p:blipFill>
        <p:spPr>
          <a:xfrm>
            <a:off x="444600" y="1974960"/>
            <a:ext cx="8053200" cy="13906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0:08:57Z</dcterms:created>
  <dc:creator>Andrew Jacobs</dc:creator>
  <dc:description/>
  <dc:language>en-US</dc:language>
  <cp:lastModifiedBy>Andrew Jacobs</cp:lastModifiedBy>
  <dcterms:modified xsi:type="dcterms:W3CDTF">2010-03-04T22:07:05Z</dcterms:modified>
  <cp:revision>57</cp:revision>
  <dc:subject/>
  <dc:title>Updating FpML’s FX Products</dc:title>
</cp:coreProperties>
</file>